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18BD-6DA0-4B7E-8535-55609E381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4AC5-7307-4BA7-A790-4487749523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9674-36FA-4C30-AFD0-2387E56E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63CA-F4EB-444C-99D7-C61AC593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C732-1FFB-4A50-B241-1FB4F843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49F8-FF67-4BF0-A9CD-CDC22C7D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7C09-7867-46C8-99A6-0957735C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8FA4-F2C0-4695-98FD-25C68511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03E5-434F-4CBA-9FE2-41CA56D5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C242-E181-45E2-891F-E680E390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8F65-32C0-40EE-A87D-4A3CA940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D22D-48FF-40D1-A57B-A9F9102B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AAF1-6B76-4304-BF1C-4B9D7B9A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688A-33A1-4AE2-9CF6-28B3D2EC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7111-D6F3-4B62-8FE9-18ACD7CF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A18C-B7A0-491A-BC3D-A7E5D7B0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B09E-A629-445D-98A7-0E464843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416F-117A-4882-AE42-F495B42D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78E2-446C-40D5-A9A6-AC150CE6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8CD6-7A7E-47F7-B74D-6C9CB7DE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4DEE-658D-469A-93C3-86E67DBB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B522-BF3C-4C65-9D9A-5064A42D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7329-8C8F-4D2E-AABE-460CDFF8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540A-E638-469C-9C94-B7357668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4008-1AE8-4EA2-B47D-ABFADAA2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1463-C92D-4F48-B90C-75A99156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21E1-25EE-44BE-828F-6206277DD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BRG, GMOD Europe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BioPivot: Applying Microsoft Live Labs’ Pivot to Problems in Bioinformatics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ephen Taylor, CB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MOD Europe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Traditionall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e spreadsheet of data with links to Gbrowse/UCSC region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ck/Filter various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d data to spreadsheet each new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Rectangle 3" descr=""/>
          <p:cNvPicPr/>
          <p:nvPr/>
        </p:nvPicPr>
        <p:blipFill>
          <a:blip r:embed="rId5"/>
          <a:stretch/>
        </p:blipFill>
        <p:spPr>
          <a:xfrm>
            <a:off x="2189160" y="4041720"/>
            <a:ext cx="43578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fdef6"/>
                </a:solidFill>
                <a:latin typeface="Arial"/>
              </a:rPr>
              <a:t>Deep Zoom Te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laise Aguera y Arcas (TED 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adragon/Photosyn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seadragon.com/showcas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icrosoft Live Labs’ P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getpivot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5" descr=""/>
          <p:cNvPicPr/>
          <p:nvPr/>
        </p:nvPicPr>
        <p:blipFill>
          <a:blip r:embed="rId8"/>
          <a:stretch/>
        </p:blipFill>
        <p:spPr>
          <a:xfrm>
            <a:off x="1332000" y="2133720"/>
            <a:ext cx="3029040" cy="1850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9"/>
          <a:stretch/>
        </p:blipFill>
        <p:spPr>
          <a:xfrm>
            <a:off x="3132000" y="2565360"/>
            <a:ext cx="3071880" cy="18716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10"/>
          <a:stretch/>
        </p:blipFill>
        <p:spPr>
          <a:xfrm>
            <a:off x="5292720" y="2349360"/>
            <a:ext cx="208764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Wouldn’t it be cool..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in bioinformatics.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e thousands of regions of interest of gen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ew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ilter seamlessly on meta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BioPivot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FF3 of RO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inth column contains ‘facet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oose your GBrowse or UCSC Browser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n the comma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ff32pivot my.gff3 –dzi –generateimages –conf mytypes.cfg -o my.cxml –browser gbrowse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BioPivot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sers for peakfi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tate a GFF3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arest g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ons, introns, intergenic, intrage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SS/TES up and down stream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laps of GFF3/B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Open Sour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Zoomable User Interfaces (ZU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Zo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openzoom.org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DK for Flash, Flex &amp;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Deep Zoom Im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Deep Zoom Colle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oups of tiled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3"/>
          <a:stretch/>
        </p:blipFill>
        <p:spPr>
          <a:xfrm>
            <a:off x="2195640" y="2421000"/>
            <a:ext cx="42638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XML Fi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2769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To D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ation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loy in a web browser using Silver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A-Seq parsers e.g. cufflinks, DE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feedback from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lse can we do with this te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brg.ox.ac.uk/data/biop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sualization of large numbers of genome reg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rying and filtering properties of genome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vot and BioPivot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 discussion of other applications of technolo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Acknowledgements - Co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Zo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openzoom.org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sgen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biostat.jhsph.edu/~hji/cisgenom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D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code.google.com/p/bedtool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Acknowledgements - Peo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im Hug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BR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MOD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BR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658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Over 50 different GBrowse databas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y labs started wanting GBrow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um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ter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me s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P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NA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Next Generation Sequenc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stone modificatio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P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action cis/trans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CR amplified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NA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ome Sequencing/SNP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hIP-Seq exam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826920" y="1484280"/>
            <a:ext cx="1152720" cy="1081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2195640" y="1700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2268360" y="134136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7" descr="Launch HUMAN_HG18 GBrowse database"/>
          <p:cNvPicPr/>
          <p:nvPr/>
        </p:nvPicPr>
        <p:blipFill>
          <a:blip r:embed="rId1"/>
          <a:stretch/>
        </p:blipFill>
        <p:spPr>
          <a:xfrm>
            <a:off x="5052960" y="1335240"/>
            <a:ext cx="2712960" cy="298764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9"/>
          <p:cNvSpPr/>
          <p:nvPr/>
        </p:nvSpPr>
        <p:spPr>
          <a:xfrm>
            <a:off x="3564000" y="1700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10"/>
          <p:cNvSpPr/>
          <p:nvPr/>
        </p:nvSpPr>
        <p:spPr>
          <a:xfrm rot="1555800">
            <a:off x="2226960" y="2421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11"/>
          <p:cNvSpPr/>
          <p:nvPr/>
        </p:nvSpPr>
        <p:spPr>
          <a:xfrm rot="1555800">
            <a:off x="363492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12" descr="porcher_chipseq"/>
          <p:cNvPicPr/>
          <p:nvPr/>
        </p:nvPicPr>
        <p:blipFill>
          <a:blip r:embed="rId2"/>
          <a:stretch/>
        </p:blipFill>
        <p:spPr>
          <a:xfrm>
            <a:off x="5108400" y="3133800"/>
            <a:ext cx="2365560" cy="26337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3"/>
          <p:cNvSpPr/>
          <p:nvPr/>
        </p:nvSpPr>
        <p:spPr>
          <a:xfrm>
            <a:off x="2050920" y="306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ak p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 rot="8874600">
            <a:off x="3924000" y="41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15"/>
          <p:cNvSpPr/>
          <p:nvPr/>
        </p:nvSpPr>
        <p:spPr>
          <a:xfrm rot="5400000">
            <a:off x="3264120" y="4958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414320" y="458136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ract sequences from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1987200" y="479736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tif extr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8"/>
          <p:cNvSpPr/>
          <p:nvPr/>
        </p:nvSpPr>
        <p:spPr>
          <a:xfrm rot="1214400">
            <a:off x="4066920" y="5734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3128760" y="59421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b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20" descr="CTCFlogo"/>
          <p:cNvPicPr/>
          <p:nvPr/>
        </p:nvPicPr>
        <p:blipFill>
          <a:blip r:embed="rId3"/>
          <a:stretch/>
        </p:blipFill>
        <p:spPr>
          <a:xfrm>
            <a:off x="5126040" y="5370480"/>
            <a:ext cx="30733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hIP-Seq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324000" y="1484280"/>
            <a:ext cx="1152360" cy="1081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1619280" y="1844640"/>
            <a:ext cx="2016000" cy="48564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2195640" y="1484280"/>
            <a:ext cx="113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3924360" y="3573360"/>
            <a:ext cx="194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ak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 rot="8067600">
            <a:off x="2639520" y="3596760"/>
            <a:ext cx="1079280" cy="48564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7" descr="Launch HUMAN_HG18 GBrowse database"/>
          <p:cNvPicPr/>
          <p:nvPr/>
        </p:nvPicPr>
        <p:blipFill>
          <a:blip r:embed="rId1"/>
          <a:stretch/>
        </p:blipFill>
        <p:spPr>
          <a:xfrm>
            <a:off x="3657600" y="1219320"/>
            <a:ext cx="2359080" cy="2646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2" descr="porcher_chipseq"/>
          <p:cNvPicPr/>
          <p:nvPr/>
        </p:nvPicPr>
        <p:blipFill>
          <a:blip r:embed="rId2"/>
          <a:stretch/>
        </p:blipFill>
        <p:spPr>
          <a:xfrm>
            <a:off x="1646280" y="4316400"/>
            <a:ext cx="2724120" cy="257184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5"/>
          <p:cNvSpPr/>
          <p:nvPr/>
        </p:nvSpPr>
        <p:spPr>
          <a:xfrm rot="2681400">
            <a:off x="5667120" y="3594240"/>
            <a:ext cx="1079280" cy="48564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12" descr="porcher_chipseq"/>
          <p:cNvPicPr/>
          <p:nvPr/>
        </p:nvPicPr>
        <p:blipFill>
          <a:blip r:embed="rId3"/>
          <a:stretch/>
        </p:blipFill>
        <p:spPr>
          <a:xfrm>
            <a:off x="5888160" y="4316400"/>
            <a:ext cx="2732040" cy="2571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"/>
          <p:cNvPicPr/>
          <p:nvPr/>
        </p:nvPicPr>
        <p:blipFill>
          <a:blip r:embed="rId4"/>
          <a:stretch/>
        </p:blipFill>
        <p:spPr>
          <a:xfrm>
            <a:off x="6372360" y="465300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"/>
          <p:cNvPicPr/>
          <p:nvPr/>
        </p:nvPicPr>
        <p:blipFill>
          <a:blip r:embed="rId5"/>
          <a:stretch/>
        </p:blipFill>
        <p:spPr>
          <a:xfrm>
            <a:off x="2771640" y="4653000"/>
            <a:ext cx="11718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erimental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ti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ak finders give false pos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ts of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st choose a suitable cut-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yeballing lots of p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Further Analys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ich of my peaks overlap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mo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pG Is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as of con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13:35:49Z</dcterms:created>
  <dc:creator>STaylor</dc:creator>
  <dc:description/>
  <dc:language>en-US</dc:language>
  <cp:lastModifiedBy>GMOD / NESCent</cp:lastModifiedBy>
  <dcterms:modified xsi:type="dcterms:W3CDTF">2010-09-17T10:50:04Z</dcterms:modified>
  <cp:revision>162</cp:revision>
  <dc:subject/>
  <dc:title>Slide 1</dc:title>
</cp:coreProperties>
</file>